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3E412-A50C-49BB-8F32-AAEC9EFDD0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552C9-194A-47CB-99EC-63C1E2FC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C0B22-E49A-4469-B18F-C221FA4D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8EEC6-DE5E-45F9-9519-98159FE84D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055C5-1AB4-4212-9FE7-ECF75670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825C7-F943-448C-8E0F-BD1A6E79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4F31C-01B0-404C-8FD2-3B25E1E1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497E6-7DC5-491C-9A88-43F3ADB24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7A18D-C7A9-4951-9AE2-1AB6015A1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5BFFB-9BB5-48CD-9EB4-4D27F522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096C8-C1BD-41A1-BF0F-D5E14FDA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D408C-725B-4F51-94EA-BCB3869C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2F2C-444F-4F41-9E2F-5D1182FB50A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细菌与病毒感染的实验室检查与防治原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653200" y="492912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55280" y="1773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化学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包膜与细胞膜融合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20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脱壳（金刚烷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型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核酸合成（阿昔洛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疱疹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前体蛋白裂解（英地那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释放（达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63640" y="1844280"/>
            <a:ext cx="633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干扰素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interferon,IF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广谱抗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基因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天然药物（中草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331640" y="2708280"/>
            <a:ext cx="71341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菌与病毒感染的实验室检查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菌药物的临床应用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细菌与病毒感染的实验室检查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41160" y="1864800"/>
            <a:ext cx="803412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标本采集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无菌操作，避免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适宜的采集时间和采集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早期和使用抗生素之前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事项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冷藏速送（奈瑟菌除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及时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详细登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涂片镜检（形态、染色有特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（选择、鉴别培养基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实验（诊断血清查未知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（指导临床用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实验（细菌毒力和致病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力检测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9640" y="2092320"/>
            <a:ext cx="7794720" cy="24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玻片凝集、协同凝集、酶免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技术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镜检（光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电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颗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与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FU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原代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倍体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代细胞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（流感病毒）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92200" y="2092320"/>
            <a:ext cx="808344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特异性抗体查抗原；酶免疫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核酸分子杂交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细菌与病毒感染的防治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9280" y="2492280"/>
            <a:ext cx="86043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菌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细胞壁合成（青霉素类、头孢类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损伤细胞膜（多黏菌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蛋白质合成（氯霉素、链霉素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核酸合成（磺胺类、吡哌酸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矩形 5"/>
          <p:cNvSpPr/>
          <p:nvPr/>
        </p:nvSpPr>
        <p:spPr>
          <a:xfrm>
            <a:off x="3385800" y="177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2050920" y="1989000"/>
            <a:ext cx="46818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应用抗菌药物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合理选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剂量适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交替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联合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7:05Z</dcterms:modified>
  <cp:revision>103</cp:revision>
  <dc:subject/>
  <dc:title>内科护理学</dc:title>
</cp:coreProperties>
</file>